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D9D-337F-48D2-8E6A-6850E5D8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6CC-10F4-4451-A6F3-49CC96D5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912-23F3-49AE-8EF8-C1E66967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EF0-E4A5-4B64-9E2A-6737822C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86F-4FD8-44BC-A448-6BA35584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443-EB4B-4DF8-8DC7-C790C0D6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D4F-1818-4AAA-A9E0-8F0EEA2F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370-F682-4E75-BFB4-37BC433C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5A91-1BC9-4B35-9C1D-0DA76115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730-125F-46A5-B960-037B3CF4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5B5-A779-4CF7-9A84-5B9BCBEA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63B-7412-41DB-880A-AB2DB8DA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6F39-1CF4-45D6-B8FE-A26B3BC57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1371600" y="0"/>
          <a:ext cx="518148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0"/>
                    <a:ext cx="5181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6553080" y="0"/>
          <a:ext cx="259092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0"/>
                    <a:ext cx="259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" name=""/>
          <p:cNvGraphicFramePr/>
          <p:nvPr/>
        </p:nvGraphicFramePr>
        <p:xfrm>
          <a:off x="0" y="0"/>
          <a:ext cx="1371600" cy="5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1371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SE Computing CPD 4.1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JD KCL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1"/>
          <a:stretch/>
        </p:blipFill>
        <p:spPr>
          <a:xfrm>
            <a:off x="3429000" y="6248520"/>
            <a:ext cx="2378160" cy="40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"/>
          <p:cNvPicPr/>
          <p:nvPr/>
        </p:nvPicPr>
        <p:blipFill>
          <a:blip r:embed="rId2"/>
          <a:stretch/>
        </p:blipFill>
        <p:spPr>
          <a:xfrm>
            <a:off x="6400800" y="5486400"/>
            <a:ext cx="2154240" cy="40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3"/>
          <a:stretch/>
        </p:blipFill>
        <p:spPr>
          <a:xfrm>
            <a:off x="228600" y="5867280"/>
            <a:ext cx="1365120" cy="74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4"/>
          <a:stretch/>
        </p:blipFill>
        <p:spPr>
          <a:xfrm>
            <a:off x="3962520" y="5181480"/>
            <a:ext cx="1314360" cy="102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5"/>
          <a:stretch/>
        </p:blipFill>
        <p:spPr>
          <a:xfrm>
            <a:off x="6934320" y="6130800"/>
            <a:ext cx="1807920" cy="72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6"/>
          <a:stretch/>
        </p:blipFill>
        <p:spPr>
          <a:xfrm>
            <a:off x="838080" y="5410080"/>
            <a:ext cx="226692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53352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101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ff0101"/>
                </a:solidFill>
                <a:latin typeface="Times New Roman"/>
              </a:rPr>
              <a:t>eaching </a:t>
            </a:r>
            <a:r>
              <a:rPr b="0" lang="en-US" sz="6600" spc="-1" strike="noStrike">
                <a:solidFill>
                  <a:srgbClr val="ff0101"/>
                </a:solidFill>
                <a:latin typeface="Times New Roman"/>
              </a:rPr>
              <a:t>L</a:t>
            </a:r>
            <a:r>
              <a:rPr b="0" lang="en-US" sz="4000" spc="-1" strike="noStrike">
                <a:solidFill>
                  <a:srgbClr val="ff0101"/>
                </a:solidFill>
                <a:latin typeface="Times New Roman"/>
              </a:rPr>
              <a:t>ondon </a:t>
            </a:r>
            <a:r>
              <a:rPr b="0" lang="en-US" sz="6600" spc="-1" strike="noStrike">
                <a:solidFill>
                  <a:srgbClr val="ff0101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ff0101"/>
                </a:solidFill>
                <a:latin typeface="Times New Roman"/>
              </a:rPr>
              <a:t>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hallenge: Number guessing g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make this number guessing game more interesting/challeng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(1 -100) or EASY (1 -10)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… too high, too 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numbers of gu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answ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another g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use this in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it up step by ste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options separa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ion… extension work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3429000"/>
            <a:ext cx="2438280" cy="1676520"/>
          </a:xfrm>
          <a:prstGeom prst="wedgeRectCallout">
            <a:avLst>
              <a:gd name="adj1" fmla="val -85481"/>
              <a:gd name="adj2" fmla="val -673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teg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and conq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 number of guesse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ching poin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hallenge: Pass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has to type in ID and correct pass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il the correct password is typ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asking the user to try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the number of atte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option to reset a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 new password will have to be typed in twice exactly the s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Why loo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 to repeat 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a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until something hap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until something stops happ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member the guessing g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made it with IF stat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=random.randrange (1,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ess= int(input(“Guess my number…..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guess==secret:     (keyword boolean col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nt(“ Correct! Well done!”)   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happens inside the if-bo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e really wanted to do was make someone keep guessing till they got the right answ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ll we can do this with a WHIL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y keep guessing wro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on asking them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syntax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eat with a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le Condition(Boolean)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he ind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side the box the program contin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1600200"/>
            <a:ext cx="1143000" cy="457200"/>
          </a:xfrm>
          <a:prstGeom prst="leftArrow">
            <a:avLst>
              <a:gd name="adj1" fmla="val 50000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2362320"/>
            <a:ext cx="914400" cy="533160"/>
          </a:xfrm>
          <a:prstGeom prst="rightArrow">
            <a:avLst>
              <a:gd name="adj1" fmla="val 50000"/>
              <a:gd name="adj2" fmla="val 428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2514600"/>
            <a:ext cx="4267080" cy="1191240"/>
          </a:xfrm>
          <a:prstGeom prst="rect">
            <a:avLst/>
          </a:prstGeom>
          <a:noFill/>
          <a:ln w="5724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the while box,            all the stuff that gets repeated until you get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4038480"/>
            <a:ext cx="2133720" cy="533520"/>
          </a:xfrm>
          <a:prstGeom prst="leftArrow">
            <a:avLst>
              <a:gd name="adj1" fmla="val 50000"/>
              <a:gd name="adj2" fmla="val 99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ing through gu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600200"/>
            <a:ext cx="8763120" cy="3934440"/>
          </a:xfrm>
          <a:prstGeom prst="rect">
            <a:avLst/>
          </a:prstGeom>
          <a:noFill/>
          <a:ln w="5724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mpo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=random.randrange(1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#print (secr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ess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wh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ess!= secr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ess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"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Guess my secret number? Go on guess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"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("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Wow you guessed it. Yes,  it 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, secr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600200"/>
            <a:ext cx="8763120" cy="4665960"/>
          </a:xfrm>
          <a:prstGeom prst="rect">
            <a:avLst/>
          </a:prstGeom>
          <a:noFill/>
          <a:ln w="93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mpo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=random.randrange(1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#print (secr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ess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whi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ess != secr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ess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"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Guess my secret number? Go on guess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.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"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("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Wow you guessed it. Yes,  it 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, secr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609480"/>
            <a:ext cx="2971800" cy="990720"/>
          </a:xfrm>
          <a:prstGeom prst="wedgeRectCallout">
            <a:avLst>
              <a:gd name="adj1" fmla="val -71740"/>
              <a:gd name="adj2" fmla="val 700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, this adds the module that allows us to use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1219320"/>
            <a:ext cx="2361960" cy="1066680"/>
          </a:xfrm>
          <a:prstGeom prst="wedgeRectCallout">
            <a:avLst>
              <a:gd name="adj1" fmla="val -120226"/>
              <a:gd name="adj2" fmla="val 44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this sets secret randomly to  1,2,3 or 4 (but not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514600"/>
            <a:ext cx="5105520" cy="685800"/>
          </a:xfrm>
          <a:prstGeom prst="wedgeRectCallout">
            <a:avLst>
              <a:gd name="adj1" fmla="val -64273"/>
              <a:gd name="adj2" fmla="val -47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we unhash this, we will know what the random number is so we can test our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3276720"/>
            <a:ext cx="4343400" cy="685800"/>
          </a:xfrm>
          <a:prstGeom prst="wedgeRectCallout">
            <a:avLst>
              <a:gd name="adj1" fmla="val -110819"/>
              <a:gd name="adj2" fmla="val -39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s is now of type integer and wrong! So we enter the box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038480"/>
            <a:ext cx="3962520" cy="457200"/>
          </a:xfrm>
          <a:prstGeom prst="wedgeRectCallout">
            <a:avLst>
              <a:gd name="adj1" fmla="val -110458"/>
              <a:gd name="adj2" fmla="val 701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did we need to put in that </a:t>
            </a:r>
            <a:r>
              <a:rPr b="0" lang="en-GB" sz="1800" spc="-1" strike="noStrike">
                <a:solidFill>
                  <a:srgbClr val="ff00ff"/>
                </a:solidFill>
                <a:latin typeface="Arial"/>
              </a:rPr>
              <a:t>i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5867280"/>
            <a:ext cx="7620120" cy="457200"/>
          </a:xfrm>
          <a:prstGeom prst="wedgeRectCallout">
            <a:avLst>
              <a:gd name="adj1" fmla="val -55523"/>
              <a:gd name="adj2" fmla="val -85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ndent, so this doesn’t happen till we get out of th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If you don’t want to guess for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 user 3 gu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kes an additional condition to stay inside the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branch… for getting out of the box by guessing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by exceeding the allowed number of atte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can have an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to deal with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if you can program thi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447920"/>
            <a:ext cx="8763120" cy="4362840"/>
          </a:xfrm>
          <a:prstGeom prst="rect">
            <a:avLst/>
          </a:prstGeom>
          <a:noFill/>
          <a:ln w="5724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impor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=random.randrange(1,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101"/>
                </a:solidFill>
                <a:latin typeface="Arial"/>
              </a:rPr>
              <a:t>#print (secr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ess=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s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uess!= secret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empts &lt;=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ess=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 input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("Guess my secret number? Go on guess..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"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s= attempts+1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ess == secret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print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("Wow you guessed it. Yes,  it was"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print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(" you had three attempts and didn't guess my secret numbe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838080"/>
            <a:ext cx="4343400" cy="2438640"/>
          </a:xfrm>
          <a:prstGeom prst="wedgeRectCallout">
            <a:avLst>
              <a:gd name="adj1" fmla="val -83879"/>
              <a:gd name="adj2" fmla="val 26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teaching points on each li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misconception al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5715000"/>
            <a:ext cx="3276720" cy="990720"/>
          </a:xfrm>
          <a:prstGeom prst="wedgeRectCallout">
            <a:avLst>
              <a:gd name="adj1" fmla="val -92393"/>
              <a:gd name="adj2" fmla="val -564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of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ow to program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3T15:14:08Z</dcterms:created>
  <dc:creator>Margaret deJ Derrington</dc:creator>
  <dc:description/>
  <dc:language>en-US</dc:language>
  <cp:lastModifiedBy>Margaret deJ Derrington</cp:lastModifiedBy>
  <dcterms:modified xsi:type="dcterms:W3CDTF">2014-07-31T03:04:31Z</dcterms:modified>
  <cp:revision>14</cp:revision>
  <dc:subject/>
  <dc:title>Slide 1</dc:title>
</cp:coreProperties>
</file>